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B26-14C6-41F6-8263-6FB67211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87A-E0D8-42BF-ABE7-0DE51A8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A9E-DCA0-4E6B-B065-1EBF87BB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8E0-F3D7-4A8C-A5F3-7F991CF9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1AE-33FA-4943-8D37-9D82126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20D-D557-426A-BCAF-1938B31C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C3D-FAFE-4F5A-B310-A6BB9FCB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B1B-1998-4754-8781-B57F7BE6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245-D8A0-494F-AFCF-21BF53F7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94E-E0EF-4941-9B33-BB7FB96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672-A182-4325-A0D3-3549797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3E0-BE58-40F7-BAEE-7F88017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A37-6C68-401E-9351-29E577476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Ancient Gree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cabular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shea Robin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opo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1600200" y="762120"/>
            <a:ext cx="5715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rge hill which the Greeks built their city-states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.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152280" y="7621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00200" y="3048120"/>
            <a:ext cx="4952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Image or photo below the definition and delete this text bo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2:36:28Z</dcterms:created>
  <dc:creator>poweruser</dc:creator>
  <dc:description/>
  <dc:language>en-US</dc:language>
  <cp:lastModifiedBy>BHISD</cp:lastModifiedBy>
  <dcterms:modified xsi:type="dcterms:W3CDTF">2012-03-01T16:01:55Z</dcterms:modified>
  <cp:revision>91</cp:revision>
  <dc:subject/>
  <dc:title>Ancient Greece</dc:title>
</cp:coreProperties>
</file>